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697FF7-5F69-42B1-B20D-597FFBCFA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way to adapt these games for older students to pl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1E012B-6A07-4DAF-AF60-A7F45C6AB5BB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D5E18E-7137-44E4-9BBC-63BDD6D1B1B3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y a few mental math problems. We are going to do some mental math. No paper and pencils. No Calculat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-6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D37551-7A2F-4AE3-927B-730BEFCBF49A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s of activities do you think these children were engaged in prior to this less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B65738-E6BD-479C-A7AA-EAB7778F49A6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 + 27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9B02D5-3F04-48E0-991A-364CA497E933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DDC2B7-629C-429D-B713-ABECFD11734B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D9189E-B4AE-414F-B458-8187F1EA192F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gallery walk. Read post-its – no com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7815BE-BC3E-4EDD-A8F3-AAD84BBB0030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 on what we, as facilitators, did to make this a comfortable learning environ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thing we want to add to our norms chart from yester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AD1EFF-9C76-488D-8365-23C97B43077D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grades K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CFF468-884F-4819-8B26-35C77A489CD4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s of activities do you think these children were engaged in prior to this less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what you saw in the video connect to what you read about in the progre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F08C50-3C83-4AA3-B692-E26FD4E65F10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F51-37BE-4820-87B8-72840277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3A9-95B8-4BA2-8EFF-0AA7D505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DA0-E525-420C-A2FA-D6F4B964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EC20-300E-48CD-AAE8-56F1451F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DF31-563E-46A2-BE73-1FAD6881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A96E-D20A-495E-9C93-E53F0488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32A7-7CD2-4E35-84C0-B661CF5E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0FFC-3771-4988-A9F1-6520FF7D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BF29-195E-4B91-AE2C-13643E88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E984-9770-430E-BA7E-B8D2EF60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2B5E-EEB4-4CAE-AF13-F201EA9C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33F-4543-4EB1-B6E6-95F03475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2573-0E64-4FDB-89CE-6F4D563E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2509-5939-4172-B8B8-8F61E1AC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C183-F1D9-4B52-A45C-76F02E68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11BC-E827-4F69-ABE0-BD6CB8AD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0119-5C9F-45F1-A024-BAE584E1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74C18-5845-4D07-890D-E4ED7B07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0C93C-DE0F-4D3F-8FDC-72115CDE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3A047-9326-4706-9B86-1CABCEE0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A30123-7636-4763-867E-73703122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1CB5B-A409-4363-A361-F420AB44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23C-0839-4CCA-BFA3-54862CA5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F924E-4B76-4CDF-B957-C5174C91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34CE2-5A82-4A80-B9B2-1F104BA4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50E4F-7C50-42FC-B9C5-87FF44A5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4F9E6-6CB2-4F16-8DB0-58AB2C0E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8239F-D830-4400-A5FB-9F6C2408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2F7E0-1CF0-44AA-B66A-3D9241DF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BA3F7-21CF-4589-81B7-30EB23B3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199EC-2845-4B7D-9381-9B57E009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AADD3-499A-4D4E-925E-1A5B62D9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BBCE1-FA5C-4CEF-BC48-92FB403D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F7D5-F3D6-413F-A9E2-B7C7E6C9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59B0E-A4A5-43A4-BDD1-475B1C78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04E26-8C76-469A-8D93-407DB785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3B972-BB99-446E-9B32-0EABD476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2F9D1-A41A-4054-AF5E-F43744D2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01AED-61B8-43BF-8442-5CA690CB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5D6B8-FB21-4429-A4D8-B1FF28C6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64FBB-DBDC-4E4D-9EC2-50A2DF9C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8DD77-E3EA-4C7C-9DBC-23C39D27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77E3B-E0F6-4E6C-8A8D-23738629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102CBB-CCD3-4277-AB42-08B7BB5A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B452-D676-474E-87E3-56DCFADA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A0517F-7FA6-43CA-9501-9FD26EFE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71F76-FDD5-4E13-AD2A-48947C7B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6CA5A3-E21E-4267-AC5A-745AD3D7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151F3F-EFC1-449D-AC62-40C27B72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11220-326A-4621-B41D-7D7732B3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FD8F3-6258-4C9E-AB4A-AF1745DC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99477-9737-4A1D-A821-7567E977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EC6C3-DDF0-4066-9BA7-A567BD79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899BE-7CE0-4D1B-9E1E-70B8522D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83881-236E-4036-8E84-88761B3E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82A-6C0E-4A18-B4D6-0317FB1D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6FF8A-1B2D-44EC-AD1B-C45EA12F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C23FE-1FDE-4B7E-BA3A-9E40FB53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1D62E1-C830-4479-9311-71ADE727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5E5DF1-EE60-4078-8379-EBA56B73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0232C1-F034-489F-8813-D0C0148D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638515-876A-4AB0-8EC2-2E8533BB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2CF8B-7BAE-4A14-8C16-A9FD6BCD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FDC8A8-8AE9-4702-90A4-9236B29D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4126CC-DDF6-4815-BD0D-72E6B4F2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86AB5F-6843-4D2D-89CD-CDD4FF35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930-0FDF-4545-AE86-431C6C24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4A2F8C-77A1-4937-888E-7EF748FB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E9ED32-FAA7-41D9-8EF6-E3CD0147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A439B4-FAF8-40F5-9FED-3A357B87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A9DEDE-8749-4C5B-BB20-1F56E86C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DDC028-49B3-4030-874C-8DE6C227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B41F9C-A09C-420B-A78E-DA1398A9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31AD81-901F-43E3-ADDF-F04AF662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30AA0C-E5E8-4DE4-993F-F119DBB4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BB148B-8950-4642-8DC8-F36EB9FF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04A88C-A7B9-43EF-BFD0-01454964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B6B-4B32-4EEC-A50A-4F5E1E15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56D2EC-BD58-49C5-8776-BBC03799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1B3760-087C-4AE3-A397-9A7DD5ED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39EAAC-E6E5-47C8-B3D5-C9935AD7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BB0A8C-0EB0-4CD2-AB12-78FEAD1A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DF478-EA17-4653-AF5D-AD975EC2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37C-E275-44A1-973A-64E9666C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6DEE-0D2F-4389-9FF4-F0F7328B72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0aaf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fcbf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fcbf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7f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0aaf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7fa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0aaf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0aaf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2E6C-7678-4EF7-BDF5-406E1E7ACD9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BBD4-26CB-44B1-B7A8-FF91307A12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6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0aaf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fcbf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fcbf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7f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0aaf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7fa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0aaf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0aaf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7c8fe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7c8fe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0A5B-CE62-407A-9958-247AE72191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9D0C-D83A-454C-9C80-36F7D109E0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A316-B93F-4086-A565-2722F3C6D44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c0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D112-922C-40B7-9FDA-74B05C5B87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33360" y="1523520"/>
            <a:ext cx="5638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36626"/>
                </a:solidFill>
                <a:latin typeface="Century Schoolbook"/>
              </a:rPr>
              <a:t>NUMBER SENSE</a:t>
            </a:r>
            <a:endParaRPr b="0" lang="en-US" sz="54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59" name="Rectangle 6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GAMES TO DEVELOP NUMBER SENSE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990360"/>
            <a:ext cx="746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Play each of the games. After you play each game, answer the following questions: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What concept(s) is the focus of each game?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What tools might students use to support to solve the problems?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Discuss the strategies students might use. Might they reason with facts they know?? How might you promote the use of more efficient strategies? 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86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457200" y="1143000"/>
          <a:ext cx="7543800" cy="118908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Get to 1,000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implified Krypto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Leftovers with 15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203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Adding Up the Deck 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ake Five, Make Ten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duct Game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20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GAMES TO DEVELOP NUMBER SENSE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3316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What evidence will you look for to see if students understand the underlying mathematics of the game?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What evidence will you look for to see if students are using number sense as they play the game?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0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6626"/>
                </a:solidFill>
                <a:latin typeface="Century Schoolbook"/>
              </a:rPr>
              <a:t>GAME EXPERT</a:t>
            </a:r>
            <a:endParaRPr b="0" lang="en-US" sz="32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For the game assigned to your group, be prepared to discuss: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Concept that is focus of game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Strategies students might use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Ways to determine if students are engaged in mathematics 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Questions you might ask students as they are playing the game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3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LEARNING PROGRESSION: K-5 NUMBER AND OPERATIONS IN BASE TEN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Read the learning progression for the grade level assigned to you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Make note of how it is connected to number sense, specifically, composing and decomposing numbers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6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MENTAL MATH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When students solve a problem in their heads, they usually use what they know about place value, number relationships, patterns, and visual images to figure it out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Problem context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Naked numbers 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9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04920" y="91440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02c"/>
                </a:solidFill>
                <a:latin typeface="Century Schoolbook"/>
              </a:rPr>
              <a:t>1000 - 674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is number sense used to determine whether an answer is reasonable or not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What purpose is served by the teacher accepting both correct and incorrect answers for the problem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is the students’ role different from typical classrooms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Often subtraction is explained as “taking away.” Cole’s strategy does not remove or take away an amount; instead, he adds to solve the problem. Why does this work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Is there any evidence that students were engaged in the Standards for Mathematical Practic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MENTAL MATH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8001000" y="2286000"/>
            <a:ext cx="66204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c002c"/>
                </a:solidFill>
                <a:latin typeface="Arial"/>
              </a:rPr>
              <a:t>Math &amp; Science Collaborative 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c002c"/>
                </a:solidFill>
                <a:latin typeface="Arial"/>
              </a:rPr>
              <a:t>at the Allegheny Intermediate Unit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467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VIDEO: 8 X 25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762120"/>
            <a:ext cx="784872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e class had shared strategies for solving 8 x 25 before the teacher introduced the array model. Why do you think this instructional decision was made? How did she link previous strategies to this array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Noel incorrectly refers to columns as rows in the array. The teacher does not correct her. Why do you think she chose to ignore this error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es the teacher connect the students’ additive thinking to multiplication? 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es the array support student understanding of multiplication? The commutative property? The distributive property? The associative property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Is there any evidence that students were engaged in the Standards for Mathematical Practic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05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VIDEO: 150 ÷ 15, 300 ÷ 15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560" y="990360"/>
            <a:ext cx="78483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How did this particular sequence of problems help students use number relationships to solve the problem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What student confusions and misunderstandings surfaces from the array model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How did the teacher navigate the discussion to build understanding about multiplication, division, and the array model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Is there any evidence that students were engaged in the Standards for Mathematical Practice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08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DEVELOPING NUMBER SENSE THROUGH REAL-LIFE SITUATIONS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002c"/>
                </a:solidFill>
                <a:latin typeface="Century Schoolbook"/>
              </a:rPr>
              <a:t>How does thinking about numbers in real-life situations help develop and/or improve children’s number sense?</a:t>
            </a:r>
            <a:endParaRPr b="0" lang="en-US" sz="40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11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FLUENCY IN PA CORE STANDARDS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3" name="Footer Placeholder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rcRect l="29439" t="24528" r="28795" b="12500"/>
          <a:stretch/>
        </p:blipFill>
        <p:spPr>
          <a:xfrm>
            <a:off x="838080" y="749160"/>
            <a:ext cx="7086600" cy="600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6626"/>
                </a:solidFill>
                <a:latin typeface="Century Schoolbook"/>
              </a:rPr>
              <a:t>REFLECTING ON NUMBER SENSE</a:t>
            </a:r>
            <a:endParaRPr b="0" lang="en-US" sz="32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Go to mscsummercourses2013.wikispaces.com and then to the number sense page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Respond to the discussion prompt “Visual Representations”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62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6626"/>
                </a:solidFill>
                <a:latin typeface="Century Schoolbook"/>
              </a:rPr>
              <a:t>SORTING ACTIVITY</a:t>
            </a:r>
            <a:endParaRPr b="0" lang="en-US" sz="44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6" name="Footer Placeholder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17" name="TextBox 3"/>
          <p:cNvSpPr/>
          <p:nvPr/>
        </p:nvSpPr>
        <p:spPr>
          <a:xfrm>
            <a:off x="914400" y="1981080"/>
            <a:ext cx="6934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002c"/>
                </a:solidFill>
                <a:latin typeface="Arial"/>
              </a:rPr>
              <a:t>Sort the cards into two piles. Be ready to tell us how you sorted.</a:t>
            </a:r>
            <a:endParaRPr b="0" lang="en-US" sz="44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38224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36626"/>
                </a:solidFill>
                <a:latin typeface="Century Schoolbook"/>
              </a:rPr>
              <a:t>WHAT DOES FLUENCY MEAN TO YOU</a:t>
            </a:r>
            <a:endParaRPr b="0" lang="en-US" sz="4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9" name="Footer Placeholder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20" name="TextBox 3"/>
          <p:cNvSpPr/>
          <p:nvPr/>
        </p:nvSpPr>
        <p:spPr>
          <a:xfrm>
            <a:off x="838080" y="182880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c002c"/>
                </a:solidFill>
                <a:latin typeface="Arial"/>
              </a:rPr>
              <a:t>On a large post-it, write down your thoughts about fluency. What is it?</a:t>
            </a:r>
            <a:endParaRPr b="0" lang="en-US" sz="48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6626"/>
                </a:solidFill>
                <a:latin typeface="Century Schoolbook"/>
              </a:rPr>
              <a:t>NUMBER SENSE AND FLUENCY</a:t>
            </a:r>
            <a:endParaRPr b="0" lang="en-US" sz="36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002c"/>
                </a:solidFill>
                <a:latin typeface="Century Schoolbook"/>
              </a:rPr>
              <a:t>How does number sense support the development of fluency?</a:t>
            </a:r>
            <a:endParaRPr b="0" lang="en-US" sz="40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23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PLANNING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Plan task focusing on one standard and one standard for math practice involving the use of visuals to develop/extend number sense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26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c002c"/>
                </a:solidFill>
                <a:latin typeface="Century Schoolbook"/>
              </a:rPr>
              <a:t>Include a mental math activity and a game. </a:t>
            </a:r>
            <a:endParaRPr b="0" lang="en-US" sz="29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26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02c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4678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Read pages 1 - 16 in </a:t>
            </a:r>
            <a:r>
              <a:rPr b="0" i="1" lang="en-US" sz="2800" spc="-1" strike="noStrike">
                <a:solidFill>
                  <a:srgbClr val="0c002c"/>
                </a:solidFill>
                <a:latin typeface="Century Schoolbook"/>
              </a:rPr>
              <a:t>Developing Number Sense, </a:t>
            </a: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and think about the following questions: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How does math talk support the development of number sense?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How do games support math talk?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Read</a:t>
            </a:r>
            <a:r>
              <a:rPr b="0" i="1" lang="en-US" sz="2800" spc="-1" strike="noStrike">
                <a:solidFill>
                  <a:srgbClr val="0c002c"/>
                </a:solidFill>
                <a:latin typeface="Century Schoolbook"/>
              </a:rPr>
              <a:t> Why Children Have Difficulties Mastering the Basic Number Combinations and How to Help Them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Complete task, if necessary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Plan task focusing on one standard and one standard for math practice involving the use of visuals to develop/extend number sense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Include a mental math activity and a game. 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29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AGENDA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Response to wiki prompt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Sharing of Number Sense Visual Activity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Do these children have number sense? – videos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Games to Develop Number Sense 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Mental Math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Videos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Article discussion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Planning 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65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OMMUNITY OF LEARNERS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Building a strong and supportive community of learners is essential in making number sense routines beneficial and productive for everyone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tudents share out thinking 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Work through misunderstandings in front of peers 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ave time to think for themselves 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68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SHARING: NUMBER SENSE VISUAL ACTIVITY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With your group, share the activity you used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How did the students respond to the activity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What challenges, if any, did you encounter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What role did the visual play in the success or challenge of the activity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71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LEARNING PROGRESSION: K-5 OPERATIONS AND ALGEBRAIC THINKING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02c"/>
                </a:solidFill>
                <a:latin typeface="Century Schoolbook"/>
              </a:rPr>
              <a:t>Read the learning progression for the grade level assigned to you.</a:t>
            </a:r>
            <a:endParaRPr b="0" lang="en-US" sz="36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Make note of how it is connected to number sense. 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74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28240" y="530280"/>
            <a:ext cx="838188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02c"/>
                </a:solidFill>
                <a:latin typeface="Century Schoolbook"/>
              </a:rPr>
              <a:t>Grade 3: 4 x 7, 2 x 14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e teacher chooses to use a context as students consider the relationship between 4 x 7 and 2 x 14. How does this context help support student thinking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is the commutative property addressed in the discussion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 the teacher’s questions help students begin to build an understanding of doubling and halving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e teacher is continually assessing her students during the number talk. What student understanding and misconceptions will she use to guide her next instructional steps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Is there any evidence that students were engaged in the Standards for Mathematical Practic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es what you saw in the video connect to what you read about in the progression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1920" y="7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DO THESE STUDENTS HAVE NUMBER SENSE?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77" name="Footer Placeholder 3"/>
          <p:cNvSpPr/>
          <p:nvPr/>
        </p:nvSpPr>
        <p:spPr>
          <a:xfrm>
            <a:off x="8077320" y="1219320"/>
            <a:ext cx="662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c002c"/>
                </a:solidFill>
                <a:latin typeface="Arial"/>
              </a:rPr>
              <a:t>Math &amp; Science Collaborative 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c002c"/>
                </a:solidFill>
                <a:latin typeface="Arial"/>
              </a:rPr>
              <a:t>at the Allegheny Intermediate Unit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DO THESE STUDENTS HAVE NUMBER SENSE?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560" y="1143000"/>
            <a:ext cx="8001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c002c"/>
                </a:solidFill>
                <a:latin typeface="Century Schoolbook"/>
              </a:rPr>
              <a:t>70 - 59</a:t>
            </a:r>
            <a:endParaRPr b="0" lang="en-US" sz="2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Schoolbook"/>
              </a:rPr>
              <a:t>How does the number line provide support for understanding </a:t>
            </a:r>
            <a:r>
              <a:rPr b="0" i="1" lang="en-US" sz="2200" spc="-1" strike="noStrike">
                <a:solidFill>
                  <a:srgbClr val="0c002c"/>
                </a:solidFill>
                <a:latin typeface="Century Schoolbook"/>
              </a:rPr>
              <a:t>Grant’s Constant Difference </a:t>
            </a:r>
            <a:r>
              <a:rPr b="0" lang="en-US" sz="2200" spc="-1" strike="noStrike">
                <a:solidFill>
                  <a:srgbClr val="0c002c"/>
                </a:solidFill>
                <a:latin typeface="Century Schoolbook"/>
              </a:rPr>
              <a:t>strategy? In what other ways could you model this strategy to help students understand why it works?</a:t>
            </a:r>
            <a:endParaRPr b="0" lang="en-US" sz="2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Schoolbook"/>
              </a:rPr>
              <a:t>The students share several subtraction strategies: </a:t>
            </a:r>
            <a:r>
              <a:rPr b="0" i="1" lang="en-US" sz="2200" spc="-1" strike="noStrike">
                <a:solidFill>
                  <a:srgbClr val="0c002c"/>
                </a:solidFill>
                <a:latin typeface="Century Schoolbook"/>
              </a:rPr>
              <a:t>Constant Difference, Adding Up, Removing in Chunks, and Adjusting One of the Numbers</a:t>
            </a:r>
            <a:r>
              <a:rPr b="0" lang="en-US" sz="2200" spc="-1" strike="noStrike">
                <a:solidFill>
                  <a:srgbClr val="0c002c"/>
                </a:solidFill>
                <a:latin typeface="Century Schoolbook"/>
              </a:rPr>
              <a:t>. Discuss how these strategies are similar and different?</a:t>
            </a:r>
            <a:endParaRPr b="0" lang="en-US" sz="2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Schoolbook"/>
              </a:rPr>
              <a:t>When Andrew shared his strategy, students were unsure whether 1 should be added or subtracted.  Share your observations about the student and teacher roles during the class discussion.  How could you help students understand his thinking?</a:t>
            </a:r>
            <a:endParaRPr b="0" lang="en-US" sz="2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Schoolbook"/>
              </a:rPr>
              <a:t>Is there any evidence that students were engaged in the Standards for Mathematical Practice?</a:t>
            </a:r>
            <a:endParaRPr b="0" lang="en-US" sz="2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80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IMPLICATIONS FOR TEACHING AND LEARNING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02c"/>
                </a:solidFill>
                <a:latin typeface="Century Schoolbook"/>
              </a:rPr>
              <a:t>What kinds of activities do you think these children were engaged in prior to these lessons?</a:t>
            </a:r>
            <a:endParaRPr b="0" lang="en-US" sz="36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02c"/>
                </a:solidFill>
                <a:latin typeface="Century Schoolbook"/>
              </a:rPr>
              <a:t>What evidence is there that they used these tools prior to the lessons we viewed?</a:t>
            </a:r>
            <a:endParaRPr b="0" lang="en-US" sz="36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83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21:17:08Z</dcterms:created>
  <dc:creator>Talking Point Graphics, Inc. (502) 456-9800</dc:creator>
  <dc:description/>
  <dc:language>en-US</dc:language>
  <cp:lastModifiedBy>Miller, Andrea</cp:lastModifiedBy>
  <cp:lastPrinted>2013-10-17T12:30:50Z</cp:lastPrinted>
  <dcterms:modified xsi:type="dcterms:W3CDTF">2014-01-17T15:19:05Z</dcterms:modified>
  <cp:revision>90</cp:revision>
  <dc:subject/>
  <dc:title>BackToSchool</dc:title>
</cp:coreProperties>
</file>